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3FE-77C9-47F5-BC85-7386D03F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AA9-E55B-453C-B75C-C669909E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3D1-CDB2-4D62-8E87-D2190099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4D1-9C68-4803-A62E-9C65338A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C9E-7B2D-4DF1-A924-46F0728E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25C-57EC-45BC-AC5B-4476DFA4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CFB-FDD8-4674-A898-70A9476D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5FD-FAF8-4410-AF26-3AF9C004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5C2-E212-4EED-8AD8-0A40DBA4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461-2F9C-4ABF-880B-2B58CBCB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2EA-7B24-4C8F-8321-8A9BB59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3B7-2762-4431-87D8-55C22B9F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1EEF-4A61-4C27-A86E-19EF57D729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mallgames.ws/uploads/posts/2009-10/1255250123_smallgames.ws_snap_2009.09.25-23.19.24_00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page.ru/imgbig/wallpapers_2597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50920" y="6021360"/>
            <a:ext cx="8642160" cy="836640"/>
          </a:xfrm>
          <a:prstGeom prst="rect">
            <a:avLst/>
          </a:prstGeom>
          <a:solidFill>
            <a:srgbClr val="00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6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ОЛШЕБНЫЕ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КАЗКИ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021360"/>
            <a:ext cx="88200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рок внеклассного чтения подготовила учитель начальных клас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Хотьковской СОШ № 5 Сергиево-Посадского городского округа Московской области Сорк Маргарита Михайл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838097-d1739330beb7fb90.gif"/>
          <p:cNvPicPr/>
          <p:nvPr/>
        </p:nvPicPr>
        <p:blipFill>
          <a:blip r:embed="rId1"/>
          <a:stretch/>
        </p:blipFill>
        <p:spPr>
          <a:xfrm>
            <a:off x="0" y="0"/>
            <a:ext cx="4959360" cy="6611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5148360" y="1418760"/>
            <a:ext cx="35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  <a:ea typeface="Times New Roman"/>
              </a:rPr>
              <a:t>33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5148360" y="1544760"/>
            <a:ext cx="352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Я стала доброй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УРА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1402958-a013dcb124158d2d.gif"/>
          <p:cNvPicPr/>
          <p:nvPr/>
        </p:nvPicPr>
        <p:blipFill>
          <a:blip r:embed="rId2"/>
          <a:stretch/>
        </p:blipFill>
        <p:spPr>
          <a:xfrm>
            <a:off x="-181080" y="1413000"/>
            <a:ext cx="3581640" cy="2865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755640" y="26460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СПАСИБО ЗА УРОК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272960"/>
            <a:ext cx="84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охова Е.М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festival.1september.ru/authors/101-447-7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kino-teatr.ru/kino/movie/sov/3999/foto/638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allpaper.goodfon.ru/image/9518-1440x900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file.mobilmusic.ru/f0/83/d9/558417.g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Рисунок 5" descr="5f57a485ead8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9280" y="1712160"/>
            <a:ext cx="86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лодец ведро уронила он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гости к кому-то явилас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рки девчонка домой принес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то, что отлично трудилас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755640" y="4230720"/>
            <a:ext cx="75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Дело было на Ура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Жил старик с девчонкой т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Ну, а кто по лесу бега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И скрывался по ноча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 rot="20532000">
            <a:off x="2323800" y="39492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с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 rot="684600">
            <a:off x="5203800" y="456444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сказ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Картинка 25 из 2135">
            <a:hlinkClick r:id="rId1"/>
          </p:cNvPr>
          <p:cNvPicPr/>
          <p:nvPr/>
        </p:nvPicPr>
        <p:blipFill>
          <a:blip r:embed="rId2"/>
          <a:srcRect l="0" t="17377" r="0" b="20331"/>
          <a:stretch/>
        </p:blipFill>
        <p:spPr>
          <a:xfrm>
            <a:off x="44280" y="1557360"/>
            <a:ext cx="9099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Картинка 28 из 86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 rot="20532000">
            <a:off x="236520" y="954360"/>
            <a:ext cx="35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  <a:ea typeface="Times New Roman"/>
              </a:rPr>
              <a:t>33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 rot="20532000">
            <a:off x="5853240" y="197316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 rot="20532000">
            <a:off x="596880" y="456552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2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-396720" y="2824200"/>
            <a:ext cx="35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4788000" y="-31752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 rot="556800">
            <a:off x="3838320" y="5029200"/>
            <a:ext cx="189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24000" y="1052640"/>
            <a:ext cx="1346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611280" y="3933720"/>
            <a:ext cx="914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Равнобедренный треугольник 3"/>
          <p:cNvSpPr/>
          <p:nvPr/>
        </p:nvSpPr>
        <p:spPr>
          <a:xfrm>
            <a:off x="2195640" y="981000"/>
            <a:ext cx="1060200" cy="1079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Равнобедренный треугольник 5"/>
          <p:cNvSpPr/>
          <p:nvPr/>
        </p:nvSpPr>
        <p:spPr>
          <a:xfrm>
            <a:off x="3276720" y="386064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Равнобедренный треугольник 6"/>
          <p:cNvSpPr/>
          <p:nvPr/>
        </p:nvSpPr>
        <p:spPr>
          <a:xfrm>
            <a:off x="4572000" y="38606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3635280" y="98100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Овал 8"/>
          <p:cNvSpPr/>
          <p:nvPr/>
        </p:nvSpPr>
        <p:spPr>
          <a:xfrm>
            <a:off x="1979640" y="393372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5940360" y="3860640"/>
            <a:ext cx="134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10"/>
          <p:cNvSpPr/>
          <p:nvPr/>
        </p:nvSpPr>
        <p:spPr>
          <a:xfrm>
            <a:off x="4932360" y="981000"/>
            <a:ext cx="914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Трапеция 11"/>
          <p:cNvSpPr/>
          <p:nvPr/>
        </p:nvSpPr>
        <p:spPr>
          <a:xfrm>
            <a:off x="6372360" y="907920"/>
            <a:ext cx="1368360" cy="9367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Трапеция 12"/>
          <p:cNvSpPr/>
          <p:nvPr/>
        </p:nvSpPr>
        <p:spPr>
          <a:xfrm>
            <a:off x="7524720" y="3860640"/>
            <a:ext cx="1368360" cy="936720"/>
          </a:xfrm>
          <a:custGeom>
            <a:avLst/>
            <a:gdLst/>
            <a:ahLst/>
            <a:rect l="l" t="t" r="r" b="b"/>
            <a:pathLst>
              <a:path w="1368425" h="936625">
                <a:moveTo>
                  <a:pt x="0" y="936625"/>
                </a:moveTo>
                <a:lnTo>
                  <a:pt x="234156" y="0"/>
                </a:lnTo>
                <a:lnTo>
                  <a:pt x="1134269" y="0"/>
                </a:lnTo>
                <a:lnTo>
                  <a:pt x="1368425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Выноска-облако 3"/>
          <p:cNvSpPr/>
          <p:nvPr/>
        </p:nvSpPr>
        <p:spPr>
          <a:xfrm>
            <a:off x="3635280" y="3716280"/>
            <a:ext cx="1657440" cy="79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f7f7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Выноска-облако 5"/>
          <p:cNvSpPr/>
          <p:nvPr/>
        </p:nvSpPr>
        <p:spPr>
          <a:xfrm>
            <a:off x="6588000" y="2708280"/>
            <a:ext cx="1656000" cy="792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9d9d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Выноска-облако 6"/>
          <p:cNvSpPr/>
          <p:nvPr/>
        </p:nvSpPr>
        <p:spPr>
          <a:xfrm>
            <a:off x="6443640" y="5300640"/>
            <a:ext cx="1657440" cy="79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Выноска-облако 7"/>
          <p:cNvSpPr/>
          <p:nvPr/>
        </p:nvSpPr>
        <p:spPr>
          <a:xfrm>
            <a:off x="1187280" y="5300640"/>
            <a:ext cx="1656000" cy="79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Выноска-облако 8"/>
          <p:cNvSpPr/>
          <p:nvPr/>
        </p:nvSpPr>
        <p:spPr>
          <a:xfrm>
            <a:off x="324000" y="2205000"/>
            <a:ext cx="1655640" cy="79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Волна 9"/>
          <p:cNvSpPr/>
          <p:nvPr/>
        </p:nvSpPr>
        <p:spPr>
          <a:xfrm>
            <a:off x="826920" y="765000"/>
            <a:ext cx="8066160" cy="1368720"/>
          </a:xfrm>
          <a:custGeom>
            <a:avLst/>
            <a:gdLst>
              <a:gd name="textAreaLeft" fmla="*/ 0 w 8066160"/>
              <a:gd name="textAreaRight" fmla="*/ 8066520 w 8066160"/>
              <a:gd name="textAreaTop" fmla="*/ 342000 h 1368720"/>
              <a:gd name="textAreaBottom" fmla="*/ 102672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9151618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6:15:06Z</dcterms:created>
  <dc:creator>Маргарита</dc:creator>
  <dc:description/>
  <dc:language>en-US</dc:language>
  <cp:lastModifiedBy>Пользователь</cp:lastModifiedBy>
  <dcterms:modified xsi:type="dcterms:W3CDTF">2022-01-03T10:36:42Z</dcterms:modified>
  <cp:revision>7</cp:revision>
  <dc:subject/>
  <dc:title>ВОЛШЕБНЫЕ  СКАЗКИ</dc:title>
</cp:coreProperties>
</file>